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0E4-5515-4638-AC03-B5628E58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64FE-15E9-4BF8-8336-DEEA6C84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391-A140-4A8F-AC9B-0C2F5CE24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26B8-6220-4B59-B4F1-76F34F8A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AC00-349C-48DE-B8A4-E1C4900A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F09-5859-4A60-AFFB-90C2EF35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28A-72DE-49AC-AEAA-F0A0EAB3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391-A70C-4529-B347-EE0A12E6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F219-3340-41FD-9CE7-EA235CBD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681-F7AB-40BE-B69B-5C2D64F0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336B-DCCE-48C9-9BC8-BAC29726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C62-945B-4028-8652-82496AA8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162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4004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920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162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4004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55640" y="43920"/>
            <a:ext cx="8353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620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0040" y="105264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920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620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0040" y="3647880"/>
            <a:ext cx="2689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55640" y="43920"/>
            <a:ext cx="8353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1680" y="364788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1680" y="1052640"/>
            <a:ext cx="4075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2000" y="3647880"/>
            <a:ext cx="83520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44280"/>
            <a:ext cx="8893080" cy="576360"/>
          </a:xfrm>
          <a:prstGeom prst="rect">
            <a:avLst/>
          </a:prstGeom>
          <a:solidFill>
            <a:srgbClr val="339933">
              <a:alpha val="90000"/>
            </a:srgbClr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3000"/>
            <a:ext cx="8820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300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820000" y="6093000"/>
            <a:ext cx="0" cy="69192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9932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257480" y="6151680"/>
            <a:ext cx="1226520" cy="732600"/>
            <a:chOff x="1257480" y="6151680"/>
            <a:chExt cx="1226520" cy="732600"/>
          </a:xfrm>
        </p:grpSpPr>
        <p:grpSp>
          <p:nvGrpSpPr>
            <p:cNvPr id="8" name=""/>
            <p:cNvGrpSpPr/>
            <p:nvPr/>
          </p:nvGrpSpPr>
          <p:grpSpPr>
            <a:xfrm>
              <a:off x="1617120" y="6151680"/>
              <a:ext cx="521640" cy="533880"/>
              <a:chOff x="1617120" y="6151680"/>
              <a:chExt cx="521640" cy="53388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4200" y="6151680"/>
                <a:ext cx="447120" cy="4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>
                <a:off x="1617120" y="6606720"/>
                <a:ext cx="521640" cy="7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1257480" y="6592680"/>
              <a:ext cx="1226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INISTRY OF AGRICULTURE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ND RURAL DEVELOP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6012000" y="6316560"/>
            <a:ext cx="620640" cy="3524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4572000" y="6165720"/>
            <a:ext cx="428760" cy="5749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5"/>
          <a:srcRect l="3029" t="1637" r="44271" b="45512"/>
          <a:stretch/>
        </p:blipFill>
        <p:spPr>
          <a:xfrm>
            <a:off x="2916360" y="6237360"/>
            <a:ext cx="493560" cy="5047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6"/>
          <a:stretch/>
        </p:blipFill>
        <p:spPr>
          <a:xfrm>
            <a:off x="7451640" y="6165720"/>
            <a:ext cx="56196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44280"/>
            <a:ext cx="8893080" cy="576360"/>
          </a:xfrm>
          <a:prstGeom prst="rect">
            <a:avLst/>
          </a:prstGeom>
          <a:solidFill>
            <a:srgbClr val="339933">
              <a:alpha val="90000"/>
            </a:srgbClr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093000"/>
            <a:ext cx="8820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300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38760" y="577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ustainable Utilization of Natural Resources for Improved Food Security (SUN-Program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20000" y="6093000"/>
            <a:ext cx="0" cy="69192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99320"/>
            <a:ext cx="8820000" cy="0"/>
          </a:xfrm>
          <a:prstGeom prst="line">
            <a:avLst/>
          </a:prstGeom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12000" y="6316560"/>
            <a:ext cx="62064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257480" y="6151680"/>
            <a:ext cx="1226520" cy="732600"/>
            <a:chOff x="1257480" y="6151680"/>
            <a:chExt cx="1226520" cy="732600"/>
          </a:xfrm>
        </p:grpSpPr>
        <p:grpSp>
          <p:nvGrpSpPr>
            <p:cNvPr id="61" name=""/>
            <p:cNvGrpSpPr/>
            <p:nvPr/>
          </p:nvGrpSpPr>
          <p:grpSpPr>
            <a:xfrm>
              <a:off x="1617120" y="6151680"/>
              <a:ext cx="521640" cy="533880"/>
              <a:chOff x="1617120" y="6151680"/>
              <a:chExt cx="521640" cy="533880"/>
            </a:xfrm>
          </p:grpSpPr>
          <p:pic>
            <p:nvPicPr>
              <p:cNvPr id="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4200" y="6151680"/>
                <a:ext cx="447120" cy="4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617120" y="6606720"/>
                <a:ext cx="521640" cy="7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57480" y="6592680"/>
              <a:ext cx="1226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INISTRY OF AGRICULTURE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ND RURAL DEVELOP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165720"/>
            <a:ext cx="428760" cy="57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3029" t="1637" r="44271" b="45512"/>
          <a:stretch/>
        </p:blipFill>
        <p:spPr>
          <a:xfrm>
            <a:off x="2916360" y="6237360"/>
            <a:ext cx="49356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451640" y="6165720"/>
            <a:ext cx="56196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80360" cy="6165720"/>
          </a:xfrm>
          <a:prstGeom prst="rect">
            <a:avLst/>
          </a:prstGeom>
          <a:solidFill>
            <a:srgbClr val="33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692280"/>
            <a:ext cx="8101080" cy="1368360"/>
          </a:xfrm>
          <a:prstGeom prst="rect">
            <a:avLst/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874960"/>
            <a:ext cx="1800360" cy="1346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692280"/>
            <a:ext cx="86756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Utilization of Natural Resour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mproved Food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UN-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6164280"/>
            <a:ext cx="539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3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200" y="1278000"/>
            <a:ext cx="184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24720" y="5948280"/>
            <a:ext cx="755640" cy="936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59640" y="6165720"/>
            <a:ext cx="0" cy="71928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813720"/>
            <a:ext cx="9144000" cy="9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7440" y="692280"/>
            <a:ext cx="1438560" cy="128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87640" y="4437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610000" y="2976480"/>
            <a:ext cx="6476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b Creation Through Stove Promotion: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Ethiopia (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T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41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-up during pilot pr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of production and sales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on of micro-credits for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52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836640"/>
            <a:ext cx="75628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mirt plastered" descr=""/>
          <p:cNvPicPr/>
          <p:nvPr/>
        </p:nvPicPr>
        <p:blipFill>
          <a:blip r:embed="rId1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3335400" cy="243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95280" y="3271680"/>
            <a:ext cx="4176720" cy="26607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3311640" cy="20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Quantitative Results/Outco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ove  Business Coverage and Sales (Oct.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31120" y="0"/>
            <a:ext cx="8128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50920" y="1341360"/>
          <a:ext cx="8424720" cy="4576680"/>
        </p:xfrm>
        <a:graphic>
          <a:graphicData uri="http://schemas.openxmlformats.org/drawingml/2006/table">
            <a:tbl>
              <a:tblPr/>
              <a:tblGrid>
                <a:gridCol w="2975040"/>
                <a:gridCol w="3019320"/>
                <a:gridCol w="2430360"/>
              </a:tblGrid>
              <a:tr h="52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operational woredas/distri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operational tow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7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facilitie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Active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of Quitting the Busines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2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oves produced (repor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oves sold (repor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8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6920" y="1065240"/>
            <a:ext cx="6405840" cy="496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63648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ove  Business Coverage and Sales (Oct.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Narrow"/>
              </a:rPr>
              <a:t>Quantitative Results/Outcom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4160" y="1353960"/>
            <a:ext cx="88898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 of the surveyed sample of produc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5% were un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ho were employed had been highly insecure with meag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ity confirmed that they did not possess any technical or business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kill transfer through tailored trainings provided as well as the experience gained as a result of running mirt stove business enable them to obtain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376 active production unit it is possi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26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a work force of more than 1700 people (43% are wo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26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st more than 2300 people (50% are below 18 years 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5080" y="74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ve Producers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come, Employment and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189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 Impacts of Mirt Business on Produc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4716360" y="1125360"/>
          <a:ext cx="4027680" cy="3743640"/>
        </p:xfrm>
        <a:graphic>
          <a:graphicData uri="http://schemas.openxmlformats.org/drawingml/2006/table">
            <a:tbl>
              <a:tblPr/>
              <a:tblGrid>
                <a:gridCol w="3078360"/>
                <a:gridCol w="94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eet health care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support extended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ss to fin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 land ac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estic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24000" y="1125360"/>
          <a:ext cx="3887640" cy="3764160"/>
        </p:xfrm>
        <a:graphic>
          <a:graphicData uri="http://schemas.openxmlformats.org/drawingml/2006/table">
            <a:tbl>
              <a:tblPr/>
              <a:tblGrid>
                <a:gridCol w="3171600"/>
                <a:gridCol w="7160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management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cash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afford clothing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meet food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eet educational 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189000"/>
            <a:ext cx="8893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Via promoting improved stove through private sector development one can contribute to address the poverty reduction by creating job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5715000"/>
            <a:ext cx="45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r bigger impact we still ne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 go a long wa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6280"/>
            <a:ext cx="83534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2000" y="1052640"/>
            <a:ext cx="835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692360" y="119700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224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energy effici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 (especially the efficient use of biomass resources a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ehol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2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development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newable Energy (RE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promote rational use of natural resources, poverty reduction and food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2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city of the different development partn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integrate into their programs and execu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nergy development measur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159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0560" y="836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860640"/>
            <a:ext cx="7561080" cy="37656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verall Go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365720"/>
            <a:ext cx="87217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ribu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stainable utiliz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natura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341360"/>
            <a:ext cx="68799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ercial 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roug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ntralise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24280"/>
            <a:ext cx="89647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per “marketing mix”:-Product, Price, Promotion &amp;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etter chance for long term sustainability and quality standards to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8720" y="2114640"/>
            <a:ext cx="36576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 of a finished product through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838760"/>
            <a:ext cx="792504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tor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5520" y="4095720"/>
            <a:ext cx="78296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her take money from the poor than thei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15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N-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83664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re Strate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34136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3808440" cy="5257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4716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inci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stove produc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all concerned stakeholder for sy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bringing the stove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should be on individuals  who can bring the stove to the market in a sustainable man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“agenda hijacking” by taking the leadership: different stakeholders have differ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Training (selected stove producers and stakeholders'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s mutual understanding and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s can work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152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92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stablishing a network of stove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training  (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est and compatibility (2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lity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2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52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mirt plastered" descr=""/>
          <p:cNvPicPr/>
          <p:nvPr/>
        </p:nvPicPr>
        <p:blipFill>
          <a:blip r:embed="rId1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83664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roducers Selection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7561080" cy="3762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echnical Train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962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etical (2 day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ts and figures about energy, the natural resources and the environment in 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tion to the theory of combustion, stove design and stove dimens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V AIDS : the “window of hope” age group and the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ctical (2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ion, installation and usage of the mirt st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2879640" cy="216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50920" y="152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mirt plastered" descr=""/>
          <p:cNvPicPr/>
          <p:nvPr/>
        </p:nvPicPr>
        <p:blipFill>
          <a:blip r:embed="rId2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4859280" y="3789360"/>
            <a:ext cx="2881440" cy="2214720"/>
            <a:chOff x="4859280" y="3789360"/>
            <a:chExt cx="2881440" cy="221472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859280" y="3789360"/>
              <a:ext cx="2881440" cy="2214720"/>
            </a:xfrm>
            <a:prstGeom prst="rect">
              <a:avLst/>
            </a:prstGeom>
            <a:ln w="22320">
              <a:solidFill>
                <a:srgbClr val="008000"/>
              </a:solidFill>
              <a:miter/>
            </a:ln>
          </p:spPr>
        </p:pic>
        <p:sp>
          <p:nvSpPr>
            <p:cNvPr id="158" name=""/>
            <p:cNvSpPr txBox="1"/>
            <p:nvPr/>
          </p:nvSpPr>
          <p:spPr>
            <a:xfrm>
              <a:off x="4859280" y="3789360"/>
              <a:ext cx="2881440" cy="221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2000" y="826920"/>
            <a:ext cx="7559640" cy="37008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Management Train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4321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k-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ing (CEFE /SIY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2951280" cy="2105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250920" y="152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irt plastered" descr=""/>
          <p:cNvPicPr/>
          <p:nvPr/>
        </p:nvPicPr>
        <p:blipFill>
          <a:blip r:embed="rId2">
            <a:lum contrast="20000"/>
          </a:blip>
          <a:srcRect l="0" t="4486" r="0" b="10296"/>
          <a:stretch/>
        </p:blipFill>
        <p:spPr>
          <a:xfrm>
            <a:off x="8602560" y="0"/>
            <a:ext cx="541440" cy="620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30150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836640"/>
            <a:ext cx="7561080" cy="414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916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ion of she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35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tools and mou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94172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start up raw materi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4034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494172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191628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1300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network of stov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8360" y="12600"/>
            <a:ext cx="755640" cy="58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152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: Promotion of Stov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076720" y="3068640"/>
            <a:ext cx="2159280" cy="16527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076720" y="1384200"/>
            <a:ext cx="2160720" cy="16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76720" y="4797360"/>
            <a:ext cx="2159280" cy="119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2:06:35Z</dcterms:created>
  <dc:creator>user</dc:creator>
  <dc:description/>
  <dc:language>en-US</dc:language>
  <cp:lastModifiedBy>Jan-Hendrik Soehlemann</cp:lastModifiedBy>
  <dcterms:modified xsi:type="dcterms:W3CDTF">2009-01-08T09:03:55Z</dcterms:modified>
  <cp:revision>2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